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3EF2-65A9-426F-9645-36F4252F5D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ПЕЦИФИЧНОСТЬ  ПАРАЗ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 определенных видов паразитов к определенным видам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епень специфичность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до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СПЕЦИФ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нало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НОРМЫ РЕА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ободноживущи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01B0-696D-4354-8EFC-03F7D5F1C6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СТРОГАЯ  ВИДОВАЯ  СПЕЦИФИЧ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остейш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трихомонады, трипаносомы, споровики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Гельминты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скарида, острица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Членистоногие (эктопаразиты)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блохи, вши, пухо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к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видовым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таксонам (подвидам, формам)       грегарина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Gonospora longissima -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лихета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odecaceria concharum 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B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изиологические виды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идентичные морфологически, но заражающие разные виды хозяев                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pistorchis felineus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мелкие хищники, человек, Европа)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.geminum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(птицы, Египет)                                                                                нематод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skaris lumbricoide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человек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.sui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инья)        мухи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achina larvar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епарный шелкопряд, Европа)-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.m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чующий шелкопряд, Америка)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843C-506A-4705-89D5-2B044A9113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олее ч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в предел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р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хозяе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емейства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от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иды-дезерти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разитируют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таксономически удален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основной группе хозяев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ещи 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Argasidae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еплокровных животных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Ornitodorus turicat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ропической черепахе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Xenobates polypte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146A-6F0E-4051-9B12-2D39F5AE70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лавные, дополнительные, случайные хозя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zygia luci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- 80%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щука, 20% - судак и окунь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Fasciola hepatica -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98%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вцы и коровы, 2% -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епень патогенности паразита зависит от степени специфичности к хозяину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паразитов -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аркер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филогенетической близости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еняется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на разных этапах жизненного ци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7335-5908-4B03-9E0E-71897FC923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Элементы жизненных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B00-D93F-4773-8E7F-0CFAF2C11D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-геогельминты, 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Hymenolepis nan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амебы, жгутиконос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С чередованием поколений и без смены хозяев.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 с партеногенетической самкой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Strongiloides sterco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споров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F9AC-D3AC-4D27-BA3C-6A5406EFFA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не размножающиеся на стадии финн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Taenia, Taeniarhynchus, Dipylidi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круглые черви-биогельминт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racunculus medinensis, Wuchereria bancrofti,              Trichinella spi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-Trypanosoma, Leishm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iphyllobothrium latum, Ligula intestin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;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креб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661E-821D-4343-86A7-4B864BA8CF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размножающиеся в стадии финн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Multiceps multiceps, Echinococcus granulosus, Alveococcus multilacular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Fasciola hepatica, Schistosoma manso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моспоридии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двукратная смена хозяев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Opisthorchis felineus, Dicrocoelumlanceolatum, Paragonimus westerma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142E-FEE6-4EDD-8A68-1B8C957C73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4BF-A5DE-42AB-A534-11EF4401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2C1-0F01-4DA8-9B57-9BA9FB71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F5F-C837-4F9A-90E0-847CDF55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DC1-3F7C-49AA-BDEF-20AA946B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CE1-9ABF-405F-B831-0AAAB5F3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EBD-7E1D-4DBD-8425-85B03E51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86E-7594-4D92-AC9B-111715D9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C6F-7557-4143-AF1C-B71E28AD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6B2-CBE5-4A06-B69C-D16D654C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2A4-FAD4-4241-8C94-6ACE3AF2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DC6-B839-489A-90E1-AD04B7CE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B80-8898-4C9B-A2A4-85BA5B79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C2B7-E9AB-416F-AD9A-E1BDDCACB9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73" name="Group 39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74" name="Rectangle 4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8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7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77" name="Rectangle 6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36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80" name="Rectangle 5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34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83" name="Group 29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84" name="Group 14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85" name="Line 15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16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17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Rectangle 27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Text Box 30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0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91" name="Group 31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25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28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Text Box 32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97" name="Line 41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2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100" name="Group 33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102" name="Line 19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20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Text Box 23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44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2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5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111" name="Group 35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12" name="Rectangle 23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4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8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18" name="Line 29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32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54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58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61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27" name="Group 51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28" name="Rectangle 37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38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30" name="Line 39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41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42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34" name="Line 43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4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5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Text Box 46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7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8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50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53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9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0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0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45" name="Group 63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46" name="Rectangle 64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65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48" name="Line 66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68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69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52" name="Line 70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2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Text Box 73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5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76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77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8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9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9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65" name="Group 81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66" name="Rectangle 82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83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68" name="Line 84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85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86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87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72" name="Line 88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89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0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Text Box 91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92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93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95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5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86" name="Text Box 50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3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88" name="Rectangle 39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40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90" name="Line 41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2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3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Text Box 48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51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0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97" name="Text Box 71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79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Group 59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201" name="Line 60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61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62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67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69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0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72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73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74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75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6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78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Text Box 82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8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9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16" name="Rectangle 6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22" name="Line 12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3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4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5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04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31" name="Line 105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106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107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08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15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36" name="Rectangle 86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87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38" name="Line 88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91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42" name="Line 92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95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6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97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9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0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1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2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10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53" name="Line 111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12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13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Text Box 114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8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60" name="Group 39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61" name="Line 40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Text Box 43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6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66" name="Rectangle 47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8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68" name="Line 49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52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5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56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8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9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0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63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81" name="Group 37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82" name="Rectangle 5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6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84" name="Line 7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8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10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88" name="Line 11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12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13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Text Box 14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15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16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18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Group 21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97" name="Line 22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3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4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Text Box 25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2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35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61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64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01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307" name="Rectangle 67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68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309" name="Line 69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70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71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2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313" name="Line 73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74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75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76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77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8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80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Group 81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22" name="Line 82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83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84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85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6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9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0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30" name="Line 91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92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93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94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34" name="Line 95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6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97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98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99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LEGION</cp:lastModifiedBy>
  <dcterms:modified xsi:type="dcterms:W3CDTF">2014-11-25T09:32:20Z</dcterms:modified>
  <cp:revision>104</cp:revision>
  <dc:subject/>
  <dc:title>СПЕЦИФИЧНОСТЬ  ПАРАЗИТОВ</dc:title>
</cp:coreProperties>
</file>